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FB23-063F-4189-8076-9E0EBFD04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7515-972E-4003-A3A6-A314B8221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32A-E2C7-42DD-A6B5-993A74B4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88C1-822E-4BCD-B70B-C605D7A5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CA1-0589-42C1-A4ED-20CF583D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85DE-7762-4B0F-9727-CA90E92B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DA3-F797-4161-80A8-0B930DBB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A784-A009-4AF8-B798-BBB06511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2305-6711-45B7-8931-2CCD85DE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207-1240-4A8E-B8FF-22F9ED40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D755-0E45-485C-98CF-F1D91FEB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1083-4EBE-4029-BB1E-0453C622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7155-6543-4385-8B9C-FBF19530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696F-4E02-42C8-9234-432305EE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381B-5425-465B-92FB-C7A36B2D5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heik Florade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693960"/>
            <a:ext cx="17528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nombre es Sheik. Yo vivo en New York. Tengo catorce años. Tengo dos hermano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82960"/>
            <a:ext cx="463320" cy="938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40384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hei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De nada Jessica. Mi familia esta bien también. Extraña tu hermana también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Vi su foto de la fiesta, ella es bonit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200400"/>
            <a:ext cx="38862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Jess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senorita. Yo soy muy bueno, gracias. ¿Y tu? Mi familia es bien. M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ermana dijo hola. Y ella extraña much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hei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 mi amigos. ¿Como estas? ¿Y como son tu famili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962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Jessic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i ella es bonita y inteligente. ¿dónde esta hermano? ¿qué es tu herman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hei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8:30:21Z</dcterms:modified>
  <cp:revision>109</cp:revision>
  <dc:subject/>
  <dc:title>Profile</dc:title>
</cp:coreProperties>
</file>